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3D57-6453-4E1C-A016-D0AEF6EE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65EE-7FBA-4630-A0E2-CA885214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BDF0-AB84-4AB5-A139-8A61CE14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4DC1-651E-4C0A-988E-4F0A2D85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5D03-7FCF-4365-97BB-2FC587F3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31DF-175A-4F12-B090-429055A8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2A1C-09CA-4F48-A425-1711C78D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DEF4-B165-43FB-B4DF-A89BC1F7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0656-0859-47C2-986C-A7294133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5664-9411-487F-AF0A-975BF15E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D51-B927-4CB9-B3F1-CEA55719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7578-1EA9-4C78-AE36-E2249B41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430F-6D5C-402E-985B-86A0DC096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9140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esson 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ow Can We Go to Beij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19880" y="38088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 五年级上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5180400" y="5257800"/>
            <a:ext cx="18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How ol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945840" y="5257800"/>
            <a:ext cx="23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How man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-126720" y="5181480"/>
            <a:ext cx="236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ow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u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322440" y="5181480"/>
            <a:ext cx="181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ow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76320" y="7920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____ do you go to the zoo?  By bu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2286000" y="5257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0" y="16304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____ are you? I’m f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0" y="434340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___ is it from the zoo to school? It’s 5km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0" y="33829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____ is it?  It is five Yua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0" y="251460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____ books are there on the desk?   Fiv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2371320" y="60480"/>
            <a:ext cx="449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ill in the blank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255600" y="1065960"/>
            <a:ext cx="805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llow the model and make senten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0" y="320040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: How far is it from ______ to ________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: It’s ____ kilometr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171000" y="3657600"/>
            <a:ext cx="19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pa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4538160" y="320040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zo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1812600" y="4343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P62$M7MC96@`]1@F3}9YE67"/>
          <p:cNvPicPr/>
          <p:nvPr/>
        </p:nvPicPr>
        <p:blipFill>
          <a:blip r:embed="rId1"/>
          <a:stretch/>
        </p:blipFill>
        <p:spPr>
          <a:xfrm>
            <a:off x="457200" y="838080"/>
            <a:ext cx="8305920" cy="4581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445320" y="30384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ir work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28600" y="554688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: How far is it from ___ to ____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: It’s __ kilometr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380880" y="0"/>
            <a:ext cx="32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up work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28600" y="762120"/>
            <a:ext cx="89154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: Hello, I want to go to ____. Do you want to go with 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: OK. ___________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: By tra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: How far is it from ___ to ____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: It’s ______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: May I invite ____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: Yes, you can make a call to ___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: Great. Hello ___. This is ____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: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457200" y="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t’s sing a song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905120" y="1295280"/>
            <a:ext cx="5181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 plane is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ast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 bus is slo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t’s take a pla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at is how I want to go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 plane is not chea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 train is just right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e can take a train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n our trip to Beijing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380880" y="152388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sten and answer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04920" y="441972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 Does Li Ming want to take a bus to Beij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80880" y="31240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 How far is it from Shijiazhuang to Beij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80880" y="57150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 How  does they go to Beij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473560" y="3733920"/>
            <a:ext cx="398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It’s 278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kilometr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2478240" y="5029200"/>
            <a:ext cx="31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o, he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oesn’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7110000" y="5867280"/>
            <a:ext cx="190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By tra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685800" y="220968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ole play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914400" y="1523880"/>
            <a:ext cx="8229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tell the dialogue with your friend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3429000" cy="2412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2010111145988093"/>
          <p:cNvPicPr/>
          <p:nvPr/>
        </p:nvPicPr>
        <p:blipFill>
          <a:blip r:embed="rId2"/>
          <a:srcRect l="10813" t="33736" r="13514" b="18071"/>
          <a:stretch/>
        </p:blipFill>
        <p:spPr>
          <a:xfrm>
            <a:off x="2209680" y="914400"/>
            <a:ext cx="266724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T01CBA~1"/>
          <p:cNvPicPr/>
          <p:nvPr/>
        </p:nvPicPr>
        <p:blipFill>
          <a:blip r:embed="rId3"/>
          <a:stretch/>
        </p:blipFill>
        <p:spPr>
          <a:xfrm>
            <a:off x="5181480" y="685800"/>
            <a:ext cx="1524240" cy="1496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T016DD~1"/>
          <p:cNvPicPr/>
          <p:nvPr/>
        </p:nvPicPr>
        <p:blipFill>
          <a:blip r:embed="rId4"/>
          <a:srcRect l="0" t="0" r="0" b="10004"/>
          <a:stretch/>
        </p:blipFill>
        <p:spPr>
          <a:xfrm>
            <a:off x="0" y="914400"/>
            <a:ext cx="2209680" cy="1365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200901~1"/>
          <p:cNvPicPr/>
          <p:nvPr/>
        </p:nvPicPr>
        <p:blipFill>
          <a:blip r:embed="rId5"/>
          <a:stretch/>
        </p:blipFill>
        <p:spPr>
          <a:xfrm>
            <a:off x="0" y="2819520"/>
            <a:ext cx="2362320" cy="1379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200642~1"/>
          <p:cNvPicPr/>
          <p:nvPr/>
        </p:nvPicPr>
        <p:blipFill>
          <a:blip r:embed="rId6"/>
          <a:stretch/>
        </p:blipFill>
        <p:spPr>
          <a:xfrm>
            <a:off x="7162920" y="457200"/>
            <a:ext cx="172872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788"/>
          <p:cNvPicPr/>
          <p:nvPr/>
        </p:nvPicPr>
        <p:blipFill>
          <a:blip r:embed="rId7"/>
          <a:stretch/>
        </p:blipFill>
        <p:spPr>
          <a:xfrm>
            <a:off x="6858000" y="2362320"/>
            <a:ext cx="2286000" cy="1571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IMG113~1"/>
          <p:cNvPicPr/>
          <p:nvPr/>
        </p:nvPicPr>
        <p:blipFill>
          <a:blip r:embed="rId8"/>
          <a:srcRect l="0" t="25266" r="0" b="15792"/>
          <a:stretch/>
        </p:blipFill>
        <p:spPr>
          <a:xfrm>
            <a:off x="4419720" y="2438280"/>
            <a:ext cx="2666880" cy="1573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110701~1"/>
          <p:cNvPicPr/>
          <p:nvPr/>
        </p:nvPicPr>
        <p:blipFill>
          <a:blip r:embed="rId9"/>
          <a:srcRect l="0" t="2922" r="4652" b="3475"/>
          <a:stretch/>
        </p:blipFill>
        <p:spPr>
          <a:xfrm>
            <a:off x="4648320" y="4648320"/>
            <a:ext cx="2895480" cy="175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253117~3"/>
          <p:cNvPicPr/>
          <p:nvPr/>
        </p:nvPicPr>
        <p:blipFill>
          <a:blip r:embed="rId10"/>
          <a:srcRect l="17334" t="72613" r="54670" b="2757"/>
          <a:stretch/>
        </p:blipFill>
        <p:spPr>
          <a:xfrm>
            <a:off x="5334120" y="3886200"/>
            <a:ext cx="685800" cy="620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253117~3"/>
          <p:cNvPicPr/>
          <p:nvPr/>
        </p:nvPicPr>
        <p:blipFill>
          <a:blip r:embed="rId11"/>
          <a:srcRect l="17334" t="72613" r="54670" b="2757"/>
          <a:stretch/>
        </p:blipFill>
        <p:spPr>
          <a:xfrm>
            <a:off x="7543800" y="6235560"/>
            <a:ext cx="685800" cy="62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253117~3"/>
          <p:cNvPicPr/>
          <p:nvPr/>
        </p:nvPicPr>
        <p:blipFill>
          <a:blip r:embed="rId12"/>
          <a:srcRect l="17339" t="72622" r="54678" b="2759"/>
          <a:stretch/>
        </p:blipFill>
        <p:spPr>
          <a:xfrm>
            <a:off x="7543800" y="3962520"/>
            <a:ext cx="609480" cy="552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242993~1"/>
          <p:cNvPicPr/>
          <p:nvPr/>
        </p:nvPicPr>
        <p:blipFill>
          <a:blip r:embed="rId13"/>
          <a:srcRect l="2245" t="9805" r="3922" b="7908"/>
          <a:stretch/>
        </p:blipFill>
        <p:spPr>
          <a:xfrm>
            <a:off x="2286000" y="2819520"/>
            <a:ext cx="2438280" cy="1218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6"/>
          <p:cNvSpPr/>
          <p:nvPr/>
        </p:nvSpPr>
        <p:spPr>
          <a:xfrm>
            <a:off x="1752480" y="0"/>
            <a:ext cx="5029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ook and say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7" descr="253117~3"/>
          <p:cNvPicPr/>
          <p:nvPr/>
        </p:nvPicPr>
        <p:blipFill>
          <a:blip r:embed="rId14"/>
          <a:srcRect l="17334" t="72613" r="54670" b="2757"/>
          <a:stretch/>
        </p:blipFill>
        <p:spPr>
          <a:xfrm>
            <a:off x="838080" y="3886200"/>
            <a:ext cx="685800" cy="620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253117~3"/>
          <p:cNvPicPr/>
          <p:nvPr/>
        </p:nvPicPr>
        <p:blipFill>
          <a:blip r:embed="rId15"/>
          <a:srcRect l="17334" t="72613" r="54670" b="2757"/>
          <a:stretch/>
        </p:blipFill>
        <p:spPr>
          <a:xfrm>
            <a:off x="2514600" y="6324480"/>
            <a:ext cx="685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200901~1"/>
          <p:cNvPicPr/>
          <p:nvPr/>
        </p:nvPicPr>
        <p:blipFill>
          <a:blip r:embed="rId1"/>
          <a:stretch/>
        </p:blipFill>
        <p:spPr>
          <a:xfrm>
            <a:off x="1981080" y="1219320"/>
            <a:ext cx="4876920" cy="28461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3021120" y="4495680"/>
            <a:ext cx="273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cc"/>
                </a:solidFill>
                <a:latin typeface="Comic Sans MS"/>
              </a:rPr>
              <a:t>plane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253117~3"/>
          <p:cNvPicPr/>
          <p:nvPr/>
        </p:nvPicPr>
        <p:blipFill>
          <a:blip r:embed="rId2"/>
          <a:srcRect l="35333" t="35739" r="36670" b="37035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3575160" y="4572000"/>
            <a:ext cx="242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cc"/>
                </a:solidFill>
                <a:latin typeface="Comic Sans MS"/>
              </a:rPr>
              <a:t>train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253117~3"/>
          <p:cNvPicPr/>
          <p:nvPr/>
        </p:nvPicPr>
        <p:blipFill>
          <a:blip r:embed="rId1"/>
          <a:srcRect l="35333" t="35739" r="36670" b="37035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600200" y="380880"/>
            <a:ext cx="586728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IMG113~1"/>
          <p:cNvPicPr/>
          <p:nvPr/>
        </p:nvPicPr>
        <p:blipFill>
          <a:blip r:embed="rId1"/>
          <a:srcRect l="0" t="25266" r="0" b="15792"/>
          <a:stretch/>
        </p:blipFill>
        <p:spPr>
          <a:xfrm>
            <a:off x="2590920" y="1600200"/>
            <a:ext cx="3619440" cy="2133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2007720" y="4191120"/>
            <a:ext cx="529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cc"/>
                </a:solidFill>
                <a:latin typeface="Comic Sans MS"/>
              </a:rPr>
              <a:t>motorcycle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253117~3"/>
          <p:cNvPicPr/>
          <p:nvPr/>
        </p:nvPicPr>
        <p:blipFill>
          <a:blip r:embed="rId2"/>
          <a:srcRect l="35333" t="35739" r="36670" b="37035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2960640" y="441972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cc"/>
                </a:solidFill>
                <a:latin typeface="Comic Sans MS"/>
              </a:rPr>
              <a:t>E-bike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253117~3"/>
          <p:cNvPicPr/>
          <p:nvPr/>
        </p:nvPicPr>
        <p:blipFill>
          <a:blip r:embed="rId1"/>
          <a:srcRect l="35333" t="35739" r="36670" b="37035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514600" y="1447920"/>
            <a:ext cx="40323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10701~1"/>
          <p:cNvPicPr/>
          <p:nvPr/>
        </p:nvPicPr>
        <p:blipFill>
          <a:blip r:embed="rId1"/>
          <a:srcRect l="0" t="2922" r="4652" b="3475"/>
          <a:stretch/>
        </p:blipFill>
        <p:spPr>
          <a:xfrm>
            <a:off x="2590920" y="1143000"/>
            <a:ext cx="3657600" cy="28558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2847240" y="4114800"/>
            <a:ext cx="29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cc"/>
                </a:solidFill>
                <a:latin typeface="Comic Sans MS"/>
              </a:rPr>
              <a:t>metro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53117~3"/>
          <p:cNvPicPr/>
          <p:nvPr/>
        </p:nvPicPr>
        <p:blipFill>
          <a:blip r:embed="rId2"/>
          <a:srcRect l="35333" t="35739" r="36670" b="37035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685800" y="2286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a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6019920" y="22860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lo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T016DD~1"/>
          <p:cNvPicPr/>
          <p:nvPr/>
        </p:nvPicPr>
        <p:blipFill>
          <a:blip r:embed="rId1"/>
          <a:srcRect l="0" t="0" r="0" b="10004"/>
          <a:stretch/>
        </p:blipFill>
        <p:spPr>
          <a:xfrm>
            <a:off x="0" y="1219320"/>
            <a:ext cx="2209680" cy="1365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T01CBA~1"/>
          <p:cNvPicPr/>
          <p:nvPr/>
        </p:nvPicPr>
        <p:blipFill>
          <a:blip r:embed="rId2"/>
          <a:stretch/>
        </p:blipFill>
        <p:spPr>
          <a:xfrm>
            <a:off x="5943600" y="1066680"/>
            <a:ext cx="1523880" cy="149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200642~1"/>
          <p:cNvPicPr/>
          <p:nvPr/>
        </p:nvPicPr>
        <p:blipFill>
          <a:blip r:embed="rId3"/>
          <a:stretch/>
        </p:blipFill>
        <p:spPr>
          <a:xfrm>
            <a:off x="6019920" y="2666880"/>
            <a:ext cx="172872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200901~1"/>
          <p:cNvPicPr/>
          <p:nvPr/>
        </p:nvPicPr>
        <p:blipFill>
          <a:blip r:embed="rId4"/>
          <a:stretch/>
        </p:blipFill>
        <p:spPr>
          <a:xfrm>
            <a:off x="228600" y="3048120"/>
            <a:ext cx="2362320" cy="13795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2133720" y="57913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 ____ is  fast/slow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609480" y="43434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6095880" y="43434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1143000" y="152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n  you describe i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14BOOO~1"/>
          <p:cNvPicPr/>
          <p:nvPr/>
        </p:nvPicPr>
        <p:blipFill>
          <a:blip r:embed="rId2"/>
          <a:srcRect l="0" t="14785" r="0" b="0"/>
          <a:stretch/>
        </p:blipFill>
        <p:spPr>
          <a:xfrm>
            <a:off x="0" y="3048120"/>
            <a:ext cx="3200400" cy="2209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3200400" y="37339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flowers are beautiful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1347-1~1"/>
          <p:cNvPicPr/>
          <p:nvPr/>
        </p:nvPicPr>
        <p:blipFill>
          <a:blip r:embed="rId3"/>
          <a:stretch/>
        </p:blipFill>
        <p:spPr>
          <a:xfrm>
            <a:off x="152280" y="914400"/>
            <a:ext cx="3048120" cy="2163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0"/>
          <p:cNvSpPr/>
          <p:nvPr/>
        </p:nvSpPr>
        <p:spPr>
          <a:xfrm>
            <a:off x="3276720" y="18288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book is interesting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447920" y="5410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  ____ is/are _____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8T02:29:57Z</dcterms:created>
  <dc:creator/>
  <dc:description/>
  <dc:language>en-US</dc:language>
  <cp:lastModifiedBy>LiuYanhua</cp:lastModifiedBy>
  <dcterms:modified xsi:type="dcterms:W3CDTF">2015-09-11T06:59:23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  <property fmtid="{D5CDD505-2E9C-101B-9397-08002B2CF9AE}" pid="3" name="Version">
    <vt:r8>1</vt:r8>
  </property>
</Properties>
</file>